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A07E-A8AB-444C-B380-7116277B48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7DBF-9671-4DC6-B9F3-B28EB26DCE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E6D2-6B10-40C6-A1B4-A96ED228B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57E4-8F41-4141-91BC-E8DC379D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5652-3794-4B2E-9A91-340880A01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423A-7163-4BD0-B4D0-3FD163937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AECC-3DC0-467F-AA55-8587F802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CCB6-80FD-4A41-A888-326E498E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1859-5484-4659-87A0-FE686C1B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1FA5-A297-4FBA-B729-C7B34B08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9112-E7B4-436A-A869-2FDA3446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C9F4-F456-480B-A0BC-36129DD9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010C-012F-48A4-8AAA-7FAD5138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2BC9-2114-47AA-8283-7D8537CE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75C5-E0D9-4B69-92AD-9E55D9F1EA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09:27:21Z</dcterms:created>
  <dc:creator>Viktor R.</dc:creator>
  <dc:description/>
  <dc:language>en-US</dc:language>
  <cp:lastModifiedBy>Viktor R.</cp:lastModifiedBy>
  <dcterms:modified xsi:type="dcterms:W3CDTF">2015-09-05T09:27:59Z</dcterms:modified>
  <cp:revision>1</cp:revision>
  <dc:subject/>
  <dc:title>PowerPoint Presentation</dc:title>
</cp:coreProperties>
</file>